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4DF0-B235-424C-B017-439F450B3F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D1D8-C860-4687-A778-403E5D05FF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42F0-56D1-417F-9B30-08990EE1ED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DE9D-3DB8-4AB0-AB5E-BDD9072270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249A-E712-487D-BBBD-AE0F4C845C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9F2A-CDE4-4A17-A6B3-A555CFC9AB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9A6E-EE79-46E9-812D-73418FCB7B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78C4-3629-4843-9402-E6F6747A30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62D3-31F1-4BB6-BA0B-724706764D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is slide to explain the basics very shortly. States, absorbing state, people moving between states and transitiion pro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8735-52FF-4F12-945F-5BB1B808A8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is slide to explain the basics very shortly. States, absorbing state, people moving between states and transitiion pro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B26E-6695-496B-A227-9BF39CB316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C52F-E70B-4026-A81A-BAAEF2D271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753D-5142-458A-98B3-FD7194B4BD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E7A2-32DB-4B83-82C8-E43FB24727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CCC0-0923-4007-B857-79120862C7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E9DB-374B-42E3-9B37-8C972FEEA5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AF27-632C-4DE6-A3DF-C19A1ED960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8E29-C34B-4D83-BBD3-5FAE320A3A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365A-DF3A-49B5-9EEB-FF5DBDB02B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53A2-DB75-4F5A-83E3-4E8314DC46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2B1E-A4E5-4CA5-8F5C-D4C1A791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90D2-7E53-40E8-B9C6-293329DD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9C8D-A3D0-414C-8092-20FCCFAD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F0FB-50E5-46F0-AB92-902CBCBF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D77F-D859-455E-95E6-2500F589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766A-5D77-4CAB-B07B-47F82EE8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928D-405C-4212-AD9C-A1C717DD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C98-E788-457A-A49B-99082C05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4127-3A3A-4324-BAD9-4983E9A1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4DB4-E572-468E-AE8E-6255543C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0417-E1E8-4EAC-9CBE-6B02E452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2555-D30D-4BC1-BC6B-D4FE0F4F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CEDF-1938-46B4-B5E2-8AABF164C8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mulating cohorts with Markov model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05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a Guzman Cast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MCj04316010000[1]"/>
          <p:cNvPicPr/>
          <p:nvPr/>
        </p:nvPicPr>
        <p:blipFill>
          <a:blip r:embed="rId2"/>
          <a:stretch/>
        </p:blipFill>
        <p:spPr>
          <a:xfrm>
            <a:off x="4356000" y="51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MCj04316010000[1]"/>
          <p:cNvPicPr/>
          <p:nvPr/>
        </p:nvPicPr>
        <p:blipFill>
          <a:blip r:embed="rId3"/>
          <a:stretch/>
        </p:blipFill>
        <p:spPr>
          <a:xfrm>
            <a:off x="6084720" y="299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MCj04316010000[1]"/>
          <p:cNvPicPr/>
          <p:nvPr/>
        </p:nvPicPr>
        <p:blipFill>
          <a:blip r:embed="rId5"/>
          <a:stretch/>
        </p:blipFill>
        <p:spPr>
          <a:xfrm>
            <a:off x="1908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MCj04316010000[1]"/>
          <p:cNvPicPr/>
          <p:nvPr/>
        </p:nvPicPr>
        <p:blipFill>
          <a:blip r:embed="rId6"/>
          <a:stretch/>
        </p:blipFill>
        <p:spPr>
          <a:xfrm>
            <a:off x="5796000" y="22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MCj04316140000[1]"/>
          <p:cNvPicPr/>
          <p:nvPr/>
        </p:nvPicPr>
        <p:blipFill>
          <a:blip r:embed="rId7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MCj04316140000[1]"/>
          <p:cNvPicPr/>
          <p:nvPr/>
        </p:nvPicPr>
        <p:blipFill>
          <a:blip r:embed="rId8"/>
          <a:stretch/>
        </p:blipFill>
        <p:spPr>
          <a:xfrm>
            <a:off x="579600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MCj04316140000[1]"/>
          <p:cNvPicPr/>
          <p:nvPr/>
        </p:nvPicPr>
        <p:blipFill>
          <a:blip r:embed="rId9"/>
          <a:stretch/>
        </p:blipFill>
        <p:spPr>
          <a:xfrm>
            <a:off x="3924360" y="544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9" descr="MCj04316140000[1]"/>
          <p:cNvPicPr/>
          <p:nvPr/>
        </p:nvPicPr>
        <p:blipFill>
          <a:blip r:embed="rId10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MCj04316140000[1]"/>
          <p:cNvPicPr/>
          <p:nvPr/>
        </p:nvPicPr>
        <p:blipFill>
          <a:blip r:embed="rId11"/>
          <a:stretch/>
        </p:blipFill>
        <p:spPr>
          <a:xfrm>
            <a:off x="4859280" y="5661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4236 -0.00185 0.28489 -0.00348 0.36232 0.03148 C 0.43975 0.06643 0.45225 0.13819 0.46475 0.20995 E">
                                      <p:cBhvr>
                                        <p:cTn id="5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4236 -0.00185 0.28489 -0.00348 0.36232 0.03148 C 0.43975 0.06643 0.45225 0.13819 0.46475 0.20995 E">
                                      <p:cBhvr>
                                        <p:cTn id="5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5.92593E-006 C -0.04062 0.04468 -0.08124 0.08936 -0.10225 0.147 C -0.12326 0.20464 -0.12465 0.27547 -0.12604 0.34653 E">
                                      <p:cBhvr>
                                        <p:cTn id="5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C -0.04271 0.13819 -0.08542 0.27616 -0.03941 0.39884 C 0.0066 0.5213 0.14097 0.62801 0.27552 0.73495 E">
                                      <p:cBhvr>
                                        <p:cTn id="6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593280" y="22240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 flipV="1">
            <a:off x="1042920" y="1844280"/>
            <a:ext cx="28908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3904920" y="128916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4572000" y="1628640"/>
            <a:ext cx="7128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2269440" y="602136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ORB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 flipV="1">
            <a:off x="2719440" y="5661000"/>
            <a:ext cx="1131840" cy="34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3617640" y="13604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5941800" y="40053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1693800" y="342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3892680" y="46980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ld= Asymptomatic * P(a,m) + Mild * (1-P(m,d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1"/>
          <p:cNvSpPr/>
          <p:nvPr/>
        </p:nvSpPr>
        <p:spPr>
          <a:xfrm>
            <a:off x="6443640" y="1052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3643560" y="1484280"/>
            <a:ext cx="172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5802480" y="3933720"/>
            <a:ext cx="170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978480" y="3357720"/>
            <a:ext cx="1643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ling the effect of an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 flipV="1">
            <a:off x="2771280" y="1844280"/>
            <a:ext cx="259236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7"/>
          <p:cNvSpPr/>
          <p:nvPr/>
        </p:nvSpPr>
        <p:spPr>
          <a:xfrm>
            <a:off x="7380360" y="3789360"/>
            <a:ext cx="1439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ver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8"/>
          <p:cNvSpPr/>
          <p:nvPr/>
        </p:nvSpPr>
        <p:spPr>
          <a:xfrm>
            <a:off x="7596360" y="343044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7020000" y="335772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0"/>
          <p:cNvSpPr/>
          <p:nvPr/>
        </p:nvSpPr>
        <p:spPr>
          <a:xfrm flipH="1" flipV="1">
            <a:off x="6876720" y="3499920"/>
            <a:ext cx="431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1"/>
          <p:cNvSpPr/>
          <p:nvPr/>
        </p:nvSpPr>
        <p:spPr>
          <a:xfrm flipH="1">
            <a:off x="5435640" y="4941720"/>
            <a:ext cx="1944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51280" y="-36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better capture the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3643560" y="1582560"/>
            <a:ext cx="10328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a,m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5738040" y="4032360"/>
            <a:ext cx="1025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m,d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8"/>
          <p:cNvSpPr/>
          <p:nvPr/>
        </p:nvSpPr>
        <p:spPr>
          <a:xfrm>
            <a:off x="978120" y="3456000"/>
            <a:ext cx="990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a,d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use spec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617640" y="13604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5941800" y="40053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693800" y="342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 flipH="1" flipV="1">
            <a:off x="2771280" y="1844280"/>
            <a:ext cx="259236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4"/>
          <p:cNvSpPr/>
          <p:nvPr/>
        </p:nvSpPr>
        <p:spPr>
          <a:xfrm>
            <a:off x="7380360" y="3789360"/>
            <a:ext cx="1439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ver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5"/>
          <p:cNvSpPr/>
          <p:nvPr/>
        </p:nvSpPr>
        <p:spPr>
          <a:xfrm>
            <a:off x="7596360" y="343044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6"/>
          <p:cNvSpPr/>
          <p:nvPr/>
        </p:nvSpPr>
        <p:spPr>
          <a:xfrm>
            <a:off x="7020000" y="335772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7"/>
          <p:cNvSpPr/>
          <p:nvPr/>
        </p:nvSpPr>
        <p:spPr>
          <a:xfrm flipH="1" flipV="1">
            <a:off x="6876720" y="3499920"/>
            <a:ext cx="431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8"/>
          <p:cNvSpPr/>
          <p:nvPr/>
        </p:nvSpPr>
        <p:spPr>
          <a:xfrm flipH="1">
            <a:off x="5435640" y="4941720"/>
            <a:ext cx="1944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9"/>
          <p:cNvSpPr/>
          <p:nvPr/>
        </p:nvSpPr>
        <p:spPr>
          <a:xfrm>
            <a:off x="154764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n Rel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1908000" y="2349360"/>
            <a:ext cx="142920" cy="24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1"/>
          <p:cNvSpPr/>
          <p:nvPr/>
        </p:nvSpPr>
        <p:spPr>
          <a:xfrm flipH="1">
            <a:off x="2700360" y="2997360"/>
            <a:ext cx="295128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2"/>
          <p:cNvSpPr/>
          <p:nvPr/>
        </p:nvSpPr>
        <p:spPr>
          <a:xfrm flipH="1">
            <a:off x="2843280" y="4437000"/>
            <a:ext cx="439272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92000" y="-2736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deal with competitive causes of 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omprehensive CHD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3"/>
          <p:cNvSpPr/>
          <p:nvPr/>
        </p:nvSpPr>
        <p:spPr>
          <a:xfrm>
            <a:off x="2532240" y="4405320"/>
            <a:ext cx="1596960" cy="88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4"/>
          <p:cNvSpPr/>
          <p:nvPr/>
        </p:nvSpPr>
        <p:spPr>
          <a:xfrm>
            <a:off x="6431040" y="2106720"/>
            <a:ext cx="887400" cy="7952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Non-C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De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5"/>
          <p:cNvSpPr/>
          <p:nvPr/>
        </p:nvSpPr>
        <p:spPr>
          <a:xfrm>
            <a:off x="2622600" y="4494240"/>
            <a:ext cx="70956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6"/>
          <p:cNvSpPr/>
          <p:nvPr/>
        </p:nvSpPr>
        <p:spPr>
          <a:xfrm>
            <a:off x="3332160" y="4494240"/>
            <a:ext cx="70812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I 1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ye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7"/>
          <p:cNvSpPr/>
          <p:nvPr/>
        </p:nvSpPr>
        <p:spPr>
          <a:xfrm>
            <a:off x="4836960" y="2195640"/>
            <a:ext cx="70992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Chro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ng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8"/>
          <p:cNvSpPr/>
          <p:nvPr/>
        </p:nvSpPr>
        <p:spPr>
          <a:xfrm>
            <a:off x="4394160" y="4494240"/>
            <a:ext cx="70956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Pos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I/U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9"/>
          <p:cNvSpPr/>
          <p:nvPr/>
        </p:nvSpPr>
        <p:spPr>
          <a:xfrm>
            <a:off x="5278320" y="3343320"/>
            <a:ext cx="70956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Hear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Fail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6431040" y="4229280"/>
            <a:ext cx="887400" cy="7952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C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De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1"/>
          <p:cNvSpPr/>
          <p:nvPr/>
        </p:nvSpPr>
        <p:spPr>
          <a:xfrm>
            <a:off x="2444760" y="2104920"/>
            <a:ext cx="1595520" cy="88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2"/>
          <p:cNvSpPr/>
          <p:nvPr/>
        </p:nvSpPr>
        <p:spPr>
          <a:xfrm>
            <a:off x="2535120" y="2195640"/>
            <a:ext cx="70812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Unstabl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ng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"/>
          <p:cNvSpPr/>
          <p:nvPr/>
        </p:nvSpPr>
        <p:spPr>
          <a:xfrm>
            <a:off x="3243240" y="2195640"/>
            <a:ext cx="70956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UA 1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ye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AutoShape 14"/>
          <p:cNvCxnSpPr>
            <a:stCxn id="214" idx="6"/>
            <a:endCxn id="219" idx="2"/>
          </p:cNvCxnSpPr>
          <p:nvPr/>
        </p:nvCxnSpPr>
        <p:spPr>
          <a:xfrm>
            <a:off x="4129200" y="4847760"/>
            <a:ext cx="265680" cy="2520"/>
          </a:xfrm>
          <a:prstGeom prst="curvedConnector5">
            <a:avLst>
              <a:gd name="adj1" fmla="val 49253"/>
              <a:gd name="adj2" fmla="val 50000"/>
              <a:gd name="adj3" fmla="val 49253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Freeform 15"/>
          <p:cNvSpPr/>
          <p:nvPr/>
        </p:nvSpPr>
        <p:spPr>
          <a:xfrm>
            <a:off x="2976480" y="5289480"/>
            <a:ext cx="708120" cy="443160"/>
          </a:xfrm>
          <a:custGeom>
            <a:avLst/>
            <a:gdLst>
              <a:gd name="textAreaLeft" fmla="*/ 0 w 708120"/>
              <a:gd name="textAreaRight" fmla="*/ 708480 w 70812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6"/>
          <p:cNvSpPr/>
          <p:nvPr/>
        </p:nvSpPr>
        <p:spPr>
          <a:xfrm>
            <a:off x="4570560" y="5113440"/>
            <a:ext cx="442800" cy="441360"/>
          </a:xfrm>
          <a:custGeom>
            <a:avLst/>
            <a:gdLst>
              <a:gd name="textAreaLeft" fmla="*/ 0 w 442800"/>
              <a:gd name="textAreaRight" fmla="*/ 443160 w 4428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7"/>
          <p:cNvSpPr/>
          <p:nvPr/>
        </p:nvSpPr>
        <p:spPr>
          <a:xfrm rot="11782200">
            <a:off x="5544720" y="2990520"/>
            <a:ext cx="442800" cy="441360"/>
          </a:xfrm>
          <a:custGeom>
            <a:avLst/>
            <a:gdLst>
              <a:gd name="textAreaLeft" fmla="*/ 0 w 442800"/>
              <a:gd name="textAreaRight" fmla="*/ 443160 w 4428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8"/>
          <p:cNvSpPr/>
          <p:nvPr/>
        </p:nvSpPr>
        <p:spPr>
          <a:xfrm rot="11782200">
            <a:off x="5103360" y="1840680"/>
            <a:ext cx="443160" cy="443160"/>
          </a:xfrm>
          <a:custGeom>
            <a:avLst/>
            <a:gdLst>
              <a:gd name="textAreaLeft" fmla="*/ 0 w 443160"/>
              <a:gd name="textAreaRight" fmla="*/ 443520 w 4431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9"/>
          <p:cNvSpPr/>
          <p:nvPr/>
        </p:nvSpPr>
        <p:spPr>
          <a:xfrm rot="10800000">
            <a:off x="2887200" y="1752120"/>
            <a:ext cx="709560" cy="443160"/>
          </a:xfrm>
          <a:custGeom>
            <a:avLst/>
            <a:gdLst>
              <a:gd name="textAreaLeft" fmla="*/ 0 w 709560"/>
              <a:gd name="textAreaRight" fmla="*/ 709920 w 7095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0"/>
          <p:cNvSpPr/>
          <p:nvPr/>
        </p:nvSpPr>
        <p:spPr>
          <a:xfrm>
            <a:off x="6078600" y="4670280"/>
            <a:ext cx="264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1"/>
          <p:cNvSpPr/>
          <p:nvPr/>
        </p:nvSpPr>
        <p:spPr>
          <a:xfrm flipV="1">
            <a:off x="6078600" y="2460600"/>
            <a:ext cx="26496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2"/>
          <p:cNvSpPr/>
          <p:nvPr/>
        </p:nvSpPr>
        <p:spPr>
          <a:xfrm>
            <a:off x="2887560" y="3166920"/>
            <a:ext cx="0" cy="106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3"/>
          <p:cNvSpPr/>
          <p:nvPr/>
        </p:nvSpPr>
        <p:spPr>
          <a:xfrm>
            <a:off x="3684600" y="3078000"/>
            <a:ext cx="797040" cy="1416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4"/>
          <p:cNvSpPr/>
          <p:nvPr/>
        </p:nvSpPr>
        <p:spPr>
          <a:xfrm flipH="1">
            <a:off x="4129200" y="2549520"/>
            <a:ext cx="442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5"/>
          <p:cNvSpPr/>
          <p:nvPr/>
        </p:nvSpPr>
        <p:spPr>
          <a:xfrm flipV="1">
            <a:off x="3951360" y="3697200"/>
            <a:ext cx="1152360" cy="620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V="1">
            <a:off x="5191200" y="4140360"/>
            <a:ext cx="264960" cy="442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>
            <a:off x="4038480" y="2901960"/>
            <a:ext cx="1065240" cy="708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5281560" y="2990880"/>
            <a:ext cx="87480" cy="266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>
            <a:off x="6078600" y="2371680"/>
            <a:ext cx="0" cy="238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3419280" y="2901960"/>
            <a:ext cx="1417320" cy="1327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31"/>
          <p:cNvSpPr/>
          <p:nvPr/>
        </p:nvSpPr>
        <p:spPr>
          <a:xfrm rot="10800000">
            <a:off x="1447560" y="1676160"/>
            <a:ext cx="609480" cy="426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>
            <a:off x="2286000" y="35812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76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 you calculate transition prob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611280" y="1844640"/>
            <a:ext cx="7129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sour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hor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ression analysis (survival ana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ftware (DISM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P can vary by sex, age, SES and calenda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ake sure your TP reflect the time scale you are using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t’s build a simple CHD markov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want to reflect the basic epidemiology of CH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sk factors acting on the healthy population generates a number of CHD incident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resents as “Clinical CH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some, the first manifestation is De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prognosis change substantially when you develop overt C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data on the effectiveness of interventions that decrease incidence of CHD (e.g.: smoking 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data on the effectiveness of interventions that decrease case fatality (e.g. secondary prevention of CH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IG 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ition probabilities are not related to age and s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clinical forms of CHD have the same pro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me later about the Markov Assumption, I have very bad memo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a mod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62120" y="2270160"/>
            <a:ext cx="144756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670200" y="2819520"/>
            <a:ext cx="16891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610320" y="3016080"/>
            <a:ext cx="180972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5562720" y="3200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80880" y="3565440"/>
            <a:ext cx="18288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9"/>
          <p:cNvCxnSpPr>
            <a:stCxn id="52" idx="3"/>
            <a:endCxn id="53" idx="1"/>
          </p:cNvCxnSpPr>
          <p:nvPr/>
        </p:nvCxnSpPr>
        <p:spPr>
          <a:xfrm>
            <a:off x="2209320" y="2468160"/>
            <a:ext cx="1461240" cy="7023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AutoShape 10"/>
          <p:cNvCxnSpPr>
            <a:stCxn id="56" idx="3"/>
            <a:endCxn id="53" idx="1"/>
          </p:cNvCxnSpPr>
          <p:nvPr/>
        </p:nvCxnSpPr>
        <p:spPr>
          <a:xfrm flipV="1">
            <a:off x="2209320" y="3169440"/>
            <a:ext cx="1461240" cy="5943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haracteristics of CHD epidemi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ronic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asymptomatic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rter, but still considerable long clinical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ition between different disease s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nical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MI/UA/Sudden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ronic Ang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rt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D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n CHD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g differences between states in term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ociate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ailable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fferen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rden of disease/Prediction of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of specific interventions/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ment versus preventative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of population level/public health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rgeted interventions (‘High risk approach’) versus whole population level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oices of Logic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ribution of effects on observed changes in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rete Event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hort Simulation using a Markov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asic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llow a cohort of people through pathways that reflect the natural history of dis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groups of the cohort move between discrete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ition probabilities drive the proportion of people in each state that move to anot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rtain states are spe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orbing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reached, no more transition from them are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: Dea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imulation runs in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transitions occur when we change to the next cy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4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1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2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MCj04316010000[1]"/>
          <p:cNvPicPr/>
          <p:nvPr/>
        </p:nvPicPr>
        <p:blipFill>
          <a:blip r:embed="rId2"/>
          <a:stretch/>
        </p:blipFill>
        <p:spPr>
          <a:xfrm>
            <a:off x="1332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MCj04316010000[1]"/>
          <p:cNvPicPr/>
          <p:nvPr/>
        </p:nvPicPr>
        <p:blipFill>
          <a:blip r:embed="rId3"/>
          <a:stretch/>
        </p:blipFill>
        <p:spPr>
          <a:xfrm>
            <a:off x="1476360" y="119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MCj04316010000[1]"/>
          <p:cNvPicPr/>
          <p:nvPr/>
        </p:nvPicPr>
        <p:blipFill>
          <a:blip r:embed="rId5"/>
          <a:stretch/>
        </p:blipFill>
        <p:spPr>
          <a:xfrm>
            <a:off x="1908000" y="1125360"/>
            <a:ext cx="360360" cy="360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MCj04316140000[1]"/>
          <p:cNvPicPr/>
          <p:nvPr/>
        </p:nvPicPr>
        <p:blipFill>
          <a:blip r:embed="rId6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MCj04316140000[1]"/>
          <p:cNvPicPr/>
          <p:nvPr/>
        </p:nvPicPr>
        <p:blipFill>
          <a:blip r:embed="rId7"/>
          <a:stretch/>
        </p:blipFill>
        <p:spPr>
          <a:xfrm>
            <a:off x="1979640" y="17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8" descr="MCj04316140000[1]"/>
          <p:cNvPicPr/>
          <p:nvPr/>
        </p:nvPicPr>
        <p:blipFill>
          <a:blip r:embed="rId8"/>
          <a:stretch/>
        </p:blipFill>
        <p:spPr>
          <a:xfrm>
            <a:off x="1332000" y="1484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9" descr="MCj04316140000[1]"/>
          <p:cNvPicPr/>
          <p:nvPr/>
        </p:nvPicPr>
        <p:blipFill>
          <a:blip r:embed="rId9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0" descr="MCj04316140000[1]"/>
          <p:cNvPicPr/>
          <p:nvPr/>
        </p:nvPicPr>
        <p:blipFill>
          <a:blip r:embed="rId10"/>
          <a:stretch/>
        </p:blipFill>
        <p:spPr>
          <a:xfrm>
            <a:off x="2556000" y="13413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74 0.00161 0.19549 0.00346 0.26771 0.03144 C 0.33993 0.05942 0.40538 0.14497 0.43299 0.16763 E">
                                      <p:cBhvr>
                                        <p:cTn id="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74 0.00161 0.19549 0.00346 0.26771 0.03144 C 0.33993 0.05942 0.40538 0.14497 0.43299 0.16763 E">
                                      <p:cBhvr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6.24277E-006 C 0.03073 0.15631 0.06163 0.31284 0.11024 0.40902 C 0.15885 0.50521 0.26111 0.54891 0.29132 0.57688 E">
                                      <p:cBhvr>
                                        <p:cTn id="1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MCj04316010000[1]"/>
          <p:cNvPicPr/>
          <p:nvPr/>
        </p:nvPicPr>
        <p:blipFill>
          <a:blip r:embed="rId2"/>
          <a:stretch/>
        </p:blipFill>
        <p:spPr>
          <a:xfrm>
            <a:off x="1332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MCj04316010000[1]"/>
          <p:cNvPicPr/>
          <p:nvPr/>
        </p:nvPicPr>
        <p:blipFill>
          <a:blip r:embed="rId3"/>
          <a:stretch/>
        </p:blipFill>
        <p:spPr>
          <a:xfrm>
            <a:off x="1476360" y="119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MCj04316010000[1]"/>
          <p:cNvPicPr/>
          <p:nvPr/>
        </p:nvPicPr>
        <p:blipFill>
          <a:blip r:embed="rId5"/>
          <a:stretch/>
        </p:blipFill>
        <p:spPr>
          <a:xfrm>
            <a:off x="1908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MCj04316010000[1]"/>
          <p:cNvPicPr/>
          <p:nvPr/>
        </p:nvPicPr>
        <p:blipFill>
          <a:blip r:embed="rId6"/>
          <a:stretch/>
        </p:blipFill>
        <p:spPr>
          <a:xfrm>
            <a:off x="5796000" y="22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MCj04316140000[1]"/>
          <p:cNvPicPr/>
          <p:nvPr/>
        </p:nvPicPr>
        <p:blipFill>
          <a:blip r:embed="rId7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MCj04316140000[1]"/>
          <p:cNvPicPr/>
          <p:nvPr/>
        </p:nvPicPr>
        <p:blipFill>
          <a:blip r:embed="rId8"/>
          <a:stretch/>
        </p:blipFill>
        <p:spPr>
          <a:xfrm>
            <a:off x="1979640" y="17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MCj04316140000[1]"/>
          <p:cNvPicPr/>
          <p:nvPr/>
        </p:nvPicPr>
        <p:blipFill>
          <a:blip r:embed="rId9"/>
          <a:stretch/>
        </p:blipFill>
        <p:spPr>
          <a:xfrm>
            <a:off x="3924360" y="544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MCj04316140000[1]"/>
          <p:cNvPicPr/>
          <p:nvPr/>
        </p:nvPicPr>
        <p:blipFill>
          <a:blip r:embed="rId10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" descr="MCj04316140000[1]"/>
          <p:cNvPicPr/>
          <p:nvPr/>
        </p:nvPicPr>
        <p:blipFill>
          <a:blip r:embed="rId11"/>
          <a:stretch/>
        </p:blipFill>
        <p:spPr>
          <a:xfrm>
            <a:off x="6443640" y="2421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6.7052E-006 C 0.07083 -0.01502 0.14166 -0.02982 0.20468 6.7052E-006 C 0.2677 0.02983 0.34913 0.14868 0.37795 0.17827 E">
                                      <p:cBhvr>
                                        <p:cTn id="1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6.7052E-006 C 0.11875 0.09249 0.2375 0.18521 0.32274 0.23053 C 0.40799 0.27584 0.48021 0.26567 0.51163 0.27261 E">
                                      <p:cBhvr>
                                        <p:cTn id="2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2948E-006 C 0.09705 0.16162 0.1941 0.32347 0.25191 0.43006 C 0.30972 0.53665 0.33073 0.60486 0.34653 0.63977 E">
                                      <p:cBhvr>
                                        <p:cTn id="2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16667E-006 2.08092E-006 C -0.00469 0.14936 -0.00921 0.29896 -0.03941 0.37757 C -0.06962 0.45618 -0.12535 0.46404 -0.18108 0.4719 E">
                                      <p:cBhvr>
                                        <p:cTn id="3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3 -0.0104 C 0.0691 -0.0104 0.09983 0.0259 0.09983 0.07098 C 0.09983 0.11584 0.0691 0.15237 0.03143 0.15237 C -0.00642 0.15237 -0.03698 0.11584 -0.03698 0.07098 C -0.03698 0.0259 -0.00642 -0.0104 0.03143 -0.0104 Z">
                                      <p:cBhvr>
                                        <p:cTn id="3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32 -2.25434E-006 C -0.02934 -2.25434E-006 -0.01962 0.02197 -0.01962 0.04971 C -0.01962 0.077 -0.02934 0.09966 -0.04132 0.09966 C -0.0533 0.09966 -0.06284 0.077 -0.06284 0.04971 C -0.06284 0.02197 -0.0533 -2.25434E-006 -0.04132 -2.25434E-006 Z">
                                      <p:cBhvr>
                                        <p:cTn id="3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4 0.0104 C -0.06546 0.0104 -0.04827 0.03491 -0.04827 0.06543 C -0.04827 0.09572 -0.06546 0.12069 -0.08664 0.12069 C -0.10764 0.12069 -0.12466 0.09572 -0.12466 0.06543 C -0.12466 0.03491 -0.10764 0.0104 -0.08664 0.0104 Z">
                                      <p:cBhvr>
                                        <p:cTn id="3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6 -0.0104 C 0.06493 -0.0104 0.09219 0.02359 0.09219 0.06567 C 0.09219 0.10752 0.06493 0.14174 0.0316 0.14174 C -0.00173 0.14174 -0.02882 0.10752 -0.02882 0.06567 C -0.02882 0.02359 -0.00173 -0.0104 0.0316 -0.0104 Z">
                                      <p:cBhvr>
                                        <p:cTn id="4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0.01041 C 0.10208 0.01041 0.1276 0.04671 0.1276 0.09156 C 0.1276 0.13642 0.10208 0.17295 0.071 0.17295 C 0.03993 0.17295 0.01458 0.13642 0.01458 0.09156 C 0.01458 0.04671 0.03993 0.01041 0.071 0.01041 Z">
                                      <p:cBhvr>
                                        <p:cTn id="4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0.02104 C 0.10191 0.02104 0.12743 0.0504 0.12743 0.0867 C 0.12743 0.12277 0.10191 0.15237 0.07084 0.15237 C 0.03976 0.15237 0.01441 0.12277 0.01441 0.0867 C 0.01441 0.0504 0.03976 0.02104 0.07084 0.02104 Z">
                                      <p:cBhvr>
                                        <p:cTn id="4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4:25:44Z</dcterms:created>
  <dc:creator>Martin O'Flaherty</dc:creator>
  <dc:description/>
  <dc:language>en-US</dc:language>
  <cp:lastModifiedBy>Guzman Castillo, Maria</cp:lastModifiedBy>
  <dcterms:modified xsi:type="dcterms:W3CDTF">2014-09-16T17:12:36Z</dcterms:modified>
  <cp:revision>7</cp:revision>
  <dc:subject/>
  <dc:title>Simulating cohorts with Markov models.</dc:title>
</cp:coreProperties>
</file>